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8000"/>
              </a:lnSpc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f6921"/>
                </a:solidFill>
                <a:latin typeface="Calisto MT"/>
              </a:rPr>
              <a:t>Click to move the slide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ヒラギノ明朝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264FAE-6EA2-452F-9509-3F50D5456D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4E08CB-99EE-431E-AD57-EAC3C5B546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6FD2BE-41C4-48D3-A9D1-4F6CFE78827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2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oardworks GCSE Science: Physic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adioac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031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E59ECF-4B61-42D1-B14C-6CA87BE2C5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word association activity could be used as a stimulus for either a small-group or whole-class discussion on the advantages and disadvantages of radiation and people’s perceptions of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968480"/>
            <a:ext cx="698328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1280" y="4521600"/>
            <a:ext cx="698328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1280" y="196848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9680" y="196848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1280" y="452160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89680" y="452160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1280" y="1968480"/>
            <a:ext cx="224820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72160" y="1968480"/>
            <a:ext cx="224820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3400" y="1968480"/>
            <a:ext cx="224820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1280" y="4521600"/>
            <a:ext cx="224820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72160" y="4521600"/>
            <a:ext cx="224820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333400" y="4521600"/>
            <a:ext cx="224820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1280" y="1968480"/>
            <a:ext cx="698328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1280" y="1968480"/>
            <a:ext cx="6983280" cy="48880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968480"/>
            <a:ext cx="3407760" cy="48880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89680" y="1968480"/>
            <a:ext cx="3407760" cy="48880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0200" y="799920"/>
            <a:ext cx="7231320" cy="135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1280" y="196848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89680" y="1968480"/>
            <a:ext cx="3407760" cy="48880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1280" y="452160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968480"/>
            <a:ext cx="3407760" cy="48880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89680" y="196848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89680" y="452160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96848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89680" y="1968480"/>
            <a:ext cx="340776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1280" y="4521600"/>
            <a:ext cx="6983280" cy="23313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f6921"/>
                </a:solidFill>
                <a:latin typeface="Calisto MT"/>
              </a:rPr>
              <a:t>Click to edit the title text format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968480"/>
            <a:ext cx="6983280" cy="48880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" name="Object 3"/>
          <p:cNvGraphicFramePr/>
          <p:nvPr/>
        </p:nvGraphicFramePr>
        <p:xfrm>
          <a:off x="8586720" y="0"/>
          <a:ext cx="557280" cy="70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86720" y="0"/>
                    <a:ext cx="557280" cy="70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sidestory.iop.org/insidestory_flash1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racticalphysics.org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../10S1/Book2.xlsx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2056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SASP – Radioactivit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Karen Fisher – Helena Romanes School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4296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Autofit/>
          </a:bodyPr>
          <a:p>
            <a:pPr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0200" y="428400"/>
            <a:ext cx="7231320" cy="328428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Addressing fears…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3840" y="1071360"/>
            <a:ext cx="8572680" cy="578484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ider the concepts you use to teach about radio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dical Physics; IoP Inside Story site is excellent -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insidestory.iop.org/insidestory_flash1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ther uses of radioactivity: industry, archaeology, smoke dete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uclear electricity – how do fission reactors work, might fusion be a future energy 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students are interested in nuclear weapons, nuclear waste and the stories about weapons proliferation and assassinations with Po-210 that they here in the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Background Radioactivity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1280" y="1142640"/>
            <a:ext cx="7603920" cy="57135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ny students are unaware that radiation occurs naturally around us all the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background.jpg"/>
          <p:cNvPicPr/>
          <p:nvPr/>
        </p:nvPicPr>
        <p:blipFill>
          <a:blip r:embed="rId1"/>
          <a:stretch/>
        </p:blipFill>
        <p:spPr>
          <a:xfrm>
            <a:off x="2443320" y="1862280"/>
            <a:ext cx="4257360" cy="3133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500040" y="528624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nucleonica site is a useful resour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nucleonica.net/naturalra.asp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Teacher concerns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11280" y="1142640"/>
            <a:ext cx="7818480" cy="57135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practical work can I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 I handle sources to keep risk to my students and myself to a minimu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n can students handle sourc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legal require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re can I get more hel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img_mid_5302.gif"/>
          <p:cNvPicPr/>
          <p:nvPr/>
        </p:nvPicPr>
        <p:blipFill>
          <a:blip r:embed="rId1"/>
          <a:stretch/>
        </p:blipFill>
        <p:spPr>
          <a:xfrm>
            <a:off x="5357880" y="4033800"/>
            <a:ext cx="292896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0200" y="285840"/>
            <a:ext cx="7231320" cy="342720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Sources of support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1280" y="1142640"/>
            <a:ext cx="7818480" cy="57135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r school will have a radiation protection supervisor – they will have been on external training and be able to explain safe practice to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y will be responsible for checking the sources and ensuring protocols are follow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RPS course is not expensive and is only one day – but it does not focus on classroom practi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practicalphysics.or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Atoms and nucl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oP Teaching Radioactivity DV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achers TV – Demonstrating Physics: Radio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veral excellent ICT resources &amp; sim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Radiation Dose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0040" y="1213920"/>
            <a:ext cx="7786800" cy="56422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ctivit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of a source is measured in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ecquerels (Bq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bsorbed do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is the amount of energy that cells absorb and is measured in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Grays (G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 gray = 1 Joule absorbed per kg of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ose equivalen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is a measure of the possible harm from radiation and is measured in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eivert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(S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UK annual average dose is 2.6mS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Maximum allowable dose for employees is 20mS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Diagnostic medical radiation gives an average dose of 0.37mS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A teachers hand receives a 0.01mSv dose during a standard school demon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215560" cy="342720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Radioactivity - an historical context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7120" y="1142640"/>
            <a:ext cx="7786800" cy="57135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istory of atoms, ideal example of how scientific idea evolve over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1896, Henri Becquerel discovered radioactivity when invisible rays from fluorescent salts (potassium uranyl sulfate) were detected by photographic fil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earch carried out my Marie and Pierre Curie, discovery of Polonium and Rad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800" spc="-1" strike="noStrike">
                <a:solidFill>
                  <a:srgbClr val="ffc000"/>
                </a:solidFill>
                <a:latin typeface="Calibri"/>
              </a:rPr>
              <a:t>Six experiments that changed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curie_marie.jpg"/>
          <p:cNvPicPr/>
          <p:nvPr/>
        </p:nvPicPr>
        <p:blipFill>
          <a:blip r:embed="rId1"/>
          <a:stretch/>
        </p:blipFill>
        <p:spPr>
          <a:xfrm>
            <a:off x="6572160" y="4357800"/>
            <a:ext cx="18669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20200" y="285840"/>
            <a:ext cx="7231320" cy="342720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Rutherford Scattering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11280" y="1142640"/>
            <a:ext cx="7603920" cy="57135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fore radioactivity could be explained the structure of the atom needed to be underst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3206520" cy="185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4714920" y="1857240"/>
            <a:ext cx="3600360" cy="3192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357120" y="3963960"/>
            <a:ext cx="4237200" cy="2894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4714920" y="514368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800" spc="-1" strike="noStrike">
                <a:solidFill>
                  <a:srgbClr val="ffc000"/>
                </a:solidFill>
                <a:latin typeface="Calibri"/>
              </a:rPr>
              <a:t>A cosmic onion RSCL cl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ffc000"/>
                </a:solidFill>
                <a:latin typeface="Calibri"/>
              </a:rPr>
              <a:t>http://www-outreach.phy.cam.ac.uk/camphy/nucleus/nucleus1_1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2309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1968480"/>
            <a:ext cx="6983280" cy="4888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769932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11280" y="1968480"/>
            <a:ext cx="6983280" cy="4888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14200" y="357120"/>
            <a:ext cx="839808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0560" y="357120"/>
            <a:ext cx="790920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0" y="31989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ons’ (protons and neutrons) are held together by  the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trong for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1968480"/>
            <a:ext cx="6983280" cy="4888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57120" y="582480"/>
            <a:ext cx="822636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Learning Outcomes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1680" y="1571400"/>
            <a:ext cx="6983280" cy="48877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vide evidence for the structure of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lain radioactivity in terms of the instability of nucl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scribe properties of alpha, beta and gamma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te and use units of activity and of radiation d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erpret and use nuclear equations, A and Z, isoto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Calibri"/>
              </a:rPr>
              <a:t>Teach ‘How Science Works’ skills through radio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b0f0"/>
                </a:solidFill>
                <a:latin typeface="Calibri"/>
              </a:rPr>
              <a:t>Appreciate why teaching should start with macroscopic phenomena before moving to microscopic descriptions and expla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b0f0"/>
                </a:solidFill>
                <a:latin typeface="Calibri"/>
              </a:rPr>
              <a:t>Use a range of models and examples to illustrate radioactive phenome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1968480"/>
            <a:ext cx="6983280" cy="4888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214200" y="623880"/>
            <a:ext cx="836928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Radioactive decay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7120" y="1213920"/>
            <a:ext cx="7237440" cy="56422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adioactivity is a random process – this means the chance of any particular atom decaying is constant with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e can’t make predictions for individual ato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ever, over large numbers of atoms we can identify patterns because of the statistics invol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allows us to talk about half-life for a radioactive isotope, which can be modelled in a number of way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awing P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0200" y="499680"/>
            <a:ext cx="7231320" cy="321300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Data from drawing pins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23" name="Content Placeholder 3" descr=""/>
          <p:cNvPicPr/>
          <p:nvPr/>
        </p:nvPicPr>
        <p:blipFill>
          <a:blip r:embed="rId1"/>
          <a:stretch/>
        </p:blipFill>
        <p:spPr>
          <a:xfrm>
            <a:off x="781200" y="1352520"/>
            <a:ext cx="6710040" cy="41529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857160" y="5857920"/>
            <a:ext cx="69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Original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7572240" cy="56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Mathematical model of decay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400" y="1213920"/>
            <a:ext cx="7786440" cy="56422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ach nucleus in an isotope has a certain chance of decaying in a unit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is called the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cay constant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 and has units of 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ctivit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(A) of a sample is a measure of how many atoms decay each second and has units of Becquerels (Bq) also dimensionally 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= -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lf-life and decay constant are related by the eq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= ln2/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Mathematical model of decay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30" name="Content Placeholder 3" descr="exponential-decay-graph.gif"/>
          <p:cNvPicPr/>
          <p:nvPr/>
        </p:nvPicPr>
        <p:blipFill>
          <a:blip r:embed="rId1"/>
          <a:stretch/>
        </p:blipFill>
        <p:spPr>
          <a:xfrm>
            <a:off x="714240" y="1000080"/>
            <a:ext cx="5286600" cy="42530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928800" y="5643720"/>
            <a:ext cx="6286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quation of line: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 = N</a:t>
            </a:r>
            <a:r>
              <a:rPr b="0" lang="en-GB" sz="4400" spc="-1" strike="noStrike" baseline="-25000">
                <a:solidFill>
                  <a:srgbClr val="ff0000"/>
                </a:solidFill>
                <a:latin typeface="Calibri"/>
              </a:rPr>
              <a:t>0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 e</a:t>
            </a:r>
            <a:r>
              <a:rPr b="0" lang="en-GB" sz="4400" spc="-1" strike="noStrike" baseline="30000">
                <a:solidFill>
                  <a:srgbClr val="ff0000"/>
                </a:solidFill>
                <a:latin typeface="Calibri"/>
              </a:rPr>
              <a:t>-</a:t>
            </a:r>
            <a:r>
              <a:rPr b="0" lang="el-GR" sz="4400" spc="-1" strike="noStrike" baseline="30000">
                <a:solidFill>
                  <a:srgbClr val="ff0000"/>
                </a:solidFill>
                <a:latin typeface="Calibri"/>
              </a:rPr>
              <a:t>λ</a:t>
            </a:r>
            <a:r>
              <a:rPr b="0" lang="en-GB" sz="4400" spc="-1" strike="noStrike" baseline="30000">
                <a:solidFill>
                  <a:srgbClr val="ff0000"/>
                </a:solidFill>
                <a:latin typeface="Calibri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0200" y="428400"/>
            <a:ext cx="7231320" cy="328428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Nuclear Stability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33" name="Content Placeholder 3" descr="nuclear_force.jpg"/>
          <p:cNvPicPr/>
          <p:nvPr/>
        </p:nvPicPr>
        <p:blipFill>
          <a:blip r:embed="rId1"/>
          <a:stretch/>
        </p:blipFill>
        <p:spPr>
          <a:xfrm>
            <a:off x="857160" y="1428840"/>
            <a:ext cx="4786560" cy="3732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6000840" y="1571760"/>
            <a:ext cx="2357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nucleus can only be stable if there is a balance between the repulsive (coulombic) force and the attractive (strong) fo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357120" y="550080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ttp://www.iop.org/activity/education/Teaching_Resources/Teaching%20Advanced%20Physics/page_8325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0200" y="571680"/>
            <a:ext cx="7231320" cy="31413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968480"/>
            <a:ext cx="6983280" cy="4888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558720" y="169920"/>
            <a:ext cx="802476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0560" y="357120"/>
            <a:ext cx="76233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More on alpha, beta and gamma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11280" y="1428480"/>
            <a:ext cx="6983280" cy="54277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alphadecay.gif"/>
          <p:cNvPicPr/>
          <p:nvPr/>
        </p:nvPicPr>
        <p:blipFill>
          <a:blip r:embed="rId1"/>
          <a:stretch/>
        </p:blipFill>
        <p:spPr>
          <a:xfrm>
            <a:off x="2143080" y="1714680"/>
            <a:ext cx="4286160" cy="164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betadecay.gif"/>
          <p:cNvPicPr/>
          <p:nvPr/>
        </p:nvPicPr>
        <p:blipFill>
          <a:blip r:embed="rId2"/>
          <a:stretch/>
        </p:blipFill>
        <p:spPr>
          <a:xfrm>
            <a:off x="3714840" y="3429000"/>
            <a:ext cx="415764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0200" y="285840"/>
            <a:ext cx="7231320" cy="342720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Cloud Chamber Evidence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144" name="Content Placeholder 3" descr="1188.jpg"/>
          <p:cNvPicPr/>
          <p:nvPr/>
        </p:nvPicPr>
        <p:blipFill>
          <a:blip r:embed="rId1"/>
          <a:stretch/>
        </p:blipFill>
        <p:spPr>
          <a:xfrm>
            <a:off x="642960" y="1214280"/>
            <a:ext cx="4618080" cy="36435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"/>
          <p:cNvSpPr/>
          <p:nvPr/>
        </p:nvSpPr>
        <p:spPr>
          <a:xfrm>
            <a:off x="5643720" y="1500120"/>
            <a:ext cx="27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pha Particle Tra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Plan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42960" y="1517760"/>
          <a:ext cx="7786800" cy="4246560"/>
        </p:xfrm>
        <a:graphic>
          <a:graphicData uri="http://schemas.openxmlformats.org/drawingml/2006/table">
            <a:tbl>
              <a:tblPr/>
              <a:tblGrid>
                <a:gridCol w="1911240"/>
                <a:gridCol w="3279960"/>
                <a:gridCol w="25956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0-1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 we need to know about radioactivity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0-11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llenges for teaching radio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0-11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torical perspective – ideas about ato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0-11.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ff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45-12.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nential model (Sum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T Resour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5-1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0-2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T Resour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nential model (sum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-2.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ff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5-3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on alpha, beta and gam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230960" cy="29131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What do we need to know about radioactivity?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71680" y="1714320"/>
            <a:ext cx="6983280" cy="488772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groups, sort statements into topics/year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are some gap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 ideas progress across KS4 &amp; Post-16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re do you feel confident/what looks like the biggest challe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10 minut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What makes teaching radioactivity difficult?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58" name="Oval 3"/>
          <p:cNvSpPr/>
          <p:nvPr/>
        </p:nvSpPr>
        <p:spPr>
          <a:xfrm>
            <a:off x="642960" y="1785960"/>
            <a:ext cx="3571920" cy="19288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285920" y="221472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onceptual Difficul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Too small to s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bstract id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7"/>
          <p:cNvSpPr/>
          <p:nvPr/>
        </p:nvSpPr>
        <p:spPr>
          <a:xfrm>
            <a:off x="2143080" y="3857760"/>
            <a:ext cx="3643200" cy="18572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2500200" y="428616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tudent percep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Radioactivity is b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Nuclear weapons/pol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9"/>
          <p:cNvSpPr/>
          <p:nvPr/>
        </p:nvSpPr>
        <p:spPr>
          <a:xfrm>
            <a:off x="4714920" y="2143080"/>
            <a:ext cx="3500280" cy="1857600"/>
          </a:xfrm>
          <a:prstGeom prst="ellipse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5500800" y="26431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Teacher concer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What is saf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Handling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230960" cy="29131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Conceptual difficulties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65" name="Content Placeholder 3" descr="feynmann.jpg"/>
          <p:cNvPicPr/>
          <p:nvPr/>
        </p:nvPicPr>
        <p:blipFill>
          <a:blip r:embed="rId1"/>
          <a:stretch/>
        </p:blipFill>
        <p:spPr>
          <a:xfrm>
            <a:off x="571680" y="1285920"/>
            <a:ext cx="1357200" cy="1542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571680" y="3000240"/>
            <a:ext cx="142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Richard Feyn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ounded Rectangular Callout 5"/>
          <p:cNvSpPr/>
          <p:nvPr/>
        </p:nvSpPr>
        <p:spPr>
          <a:xfrm>
            <a:off x="2643120" y="1285920"/>
            <a:ext cx="3214800" cy="928800"/>
          </a:xfrm>
          <a:prstGeom prst="wedgeRoundRectCallout">
            <a:avLst>
              <a:gd name="adj1" fmla="val -85439"/>
              <a:gd name="adj2" fmla="val 5546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857680" y="1428840"/>
            <a:ext cx="27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verything is made of a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2500200" y="2643120"/>
            <a:ext cx="578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toms are almost unimaginably small – you can’t see them even with a really good microscope because they are smaller than the wavelength of ligh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 atom is almost entirely empty space with nearly all it’s mass in a tiny central nucleu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is tiny central nucleus is made up of even smaller bits – these do stuff we can term radioac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8" descr="270px-Stylised_Lithium_Atom.svg.png"/>
          <p:cNvPicPr/>
          <p:nvPr/>
        </p:nvPicPr>
        <p:blipFill>
          <a:blip r:embed="rId2"/>
          <a:stretch/>
        </p:blipFill>
        <p:spPr>
          <a:xfrm>
            <a:off x="357120" y="3786120"/>
            <a:ext cx="1981440" cy="223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team-05-graphene.jpg.png"/>
          <p:cNvPicPr/>
          <p:nvPr/>
        </p:nvPicPr>
        <p:blipFill>
          <a:blip r:embed="rId3"/>
          <a:stretch/>
        </p:blipFill>
        <p:spPr>
          <a:xfrm>
            <a:off x="6500880" y="4643280"/>
            <a:ext cx="1379520" cy="1928880"/>
          </a:xfrm>
          <a:prstGeom prst="rect">
            <a:avLst/>
          </a:prstGeom>
          <a:ln w="0">
            <a:noFill/>
          </a:ln>
        </p:spPr>
      </p:pic>
      <p:sp>
        <p:nvSpPr>
          <p:cNvPr id="72" name="TextBox 10"/>
          <p:cNvSpPr/>
          <p:nvPr/>
        </p:nvSpPr>
        <p:spPr>
          <a:xfrm>
            <a:off x="4286160" y="614376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Electron micrograph of carbon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500040" y="600084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Stylised lithium at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Addressing conceptual difficulties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1280" y="1714320"/>
            <a:ext cx="6983280" cy="514188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earch shows mid and lower ability students find the particle model of matter difficu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 introducing radioactivity in terms of atomic and nuclear structure is unhelpful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rt from th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phenomena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can demonstrate, e.g. effects getting smaller with distance from source or which materials radiation can and can’t penet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dels of microscopic processes can help students develop understanding but may also add to misconceptions – important that students question th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0200" y="357120"/>
            <a:ext cx="72313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‘</a:t>
            </a: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Radiation is bad’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11280" y="1142640"/>
            <a:ext cx="6983280" cy="571356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bIns="0" anchor="t">
            <a:normAutofit/>
          </a:bodyPr>
          <a:p>
            <a:pPr marL="343080" indent="-34308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udents (and the population in general) perceive radiation as a bad th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detectable by human s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rious consequ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cers (time delay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tamination (long las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aware of background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dia sc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crecy – industrial, military and political interes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Mushroom cloud.jpg"/>
          <p:cNvPicPr/>
          <p:nvPr/>
        </p:nvPicPr>
        <p:blipFill>
          <a:blip r:embed="rId1"/>
          <a:stretch/>
        </p:blipFill>
        <p:spPr>
          <a:xfrm>
            <a:off x="6189840" y="1714680"/>
            <a:ext cx="2446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0200" y="799920"/>
            <a:ext cx="7231320" cy="2912760"/>
          </a:xfrm>
          <a:prstGeom prst="rect">
            <a:avLst/>
          </a:prstGeom>
          <a:noFill/>
          <a:ln w="0">
            <a:noFill/>
          </a:ln>
        </p:spPr>
        <p:txBody>
          <a:bodyPr lIns="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df6921"/>
                </a:solidFill>
                <a:latin typeface="Calisto MT"/>
              </a:rPr>
              <a:t>What do you think of radiation?</a:t>
            </a:r>
            <a:endParaRPr b="1" lang="en-US" sz="4000" spc="-1" strike="noStrike">
              <a:solidFill>
                <a:srgbClr val="df6921"/>
              </a:solidFill>
              <a:latin typeface="Calisto MT"/>
            </a:endParaRPr>
          </a:p>
        </p:txBody>
      </p:sp>
      <p:pic>
        <p:nvPicPr>
          <p:cNvPr id="80" name="Picture 3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flash_icon"/>
          <p:cNvPicPr/>
          <p:nvPr/>
        </p:nvPicPr>
        <p:blipFill>
          <a:blip r:embed="rId2"/>
          <a:stretch/>
        </p:blipFill>
        <p:spPr>
          <a:xfrm>
            <a:off x="7451640" y="115920"/>
            <a:ext cx="385920" cy="431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notes_icon"/>
          <p:cNvPicPr/>
          <p:nvPr/>
        </p:nvPicPr>
        <p:blipFill>
          <a:blip r:embed="rId3"/>
          <a:stretch/>
        </p:blipFill>
        <p:spPr>
          <a:xfrm>
            <a:off x="6973920" y="150840"/>
            <a:ext cx="442800" cy="38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mes</dc:creator>
  <dc:description/>
  <dc:language>en-US</dc:language>
  <cp:lastModifiedBy>Neil</cp:lastModifiedBy>
  <dcterms:modified xsi:type="dcterms:W3CDTF">2011-03-07T16:33:36Z</dcterms:modified>
  <cp:revision>168</cp:revision>
  <dc:subject/>
  <dc:title>PowerPoint Presentation</dc:title>
</cp:coreProperties>
</file>